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291-6C6B-4B87-89C8-172ED9C3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709-D723-4A5B-A58A-E4BD1AB4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338-6082-44B9-89BA-4AB2859F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619-F043-4C23-A753-728BEC7B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BD53-1849-414E-BB21-9791545D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74AF-6CCA-486A-B663-7DC4E25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637-21A9-478C-A922-BC8A571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073-51F5-4B8A-B2D7-5CE8C03A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553-5CF7-467A-B06A-4E3C67EF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2014-B00A-46E7-9A1E-860E6E6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B06-4D49-4564-A374-10DBBBA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FB1-2685-414A-8D32-1BFE7C47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9EE2-F589-4DF8-9D88-B7D7A0F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7E6-A626-44A8-BFD7-3AA9F99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5D26-A8D6-4D5E-8A64-A325CFA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1199-6E67-4EF9-8C86-CB051D3D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BBD-9D97-4CA3-BB22-8C68136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2C062-CE66-41AB-A985-E0DA34D3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4BBA0-5B58-434C-8F62-69A60DDC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7E6F0-BF2E-49E8-93F6-F42ABA68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2C81B-FF94-4262-97B3-2296B0B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60F01-D53E-42E9-8257-D3E304D8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66D-3543-4298-BD6F-CCE6502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675F9-EDBF-459E-84E0-AF6A699F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E6CEC-C6E6-4CB0-95CD-1E1369F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9302B-9CB6-4909-8773-617EEE21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3741E-D633-43C4-B391-E65FA8C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87D64-B5DB-4456-A3B5-C40CAF3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F76D2-C1BA-467D-9871-7AE03BD1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1190F-4093-45D1-9E8E-850A1C39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41A9F-C1C4-4BE0-8125-D325DDF4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5ACA8-CA1B-4BE8-B088-8572914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4573F-115F-484D-A48C-E2ACA8D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D76-4457-4BEF-9080-A52CAFD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8D7A1-71C9-44A2-BF0A-1991D61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232B9-307D-47F0-ACFF-48EC2DBD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83782-0195-438F-A5E2-5DA938C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B0581-D3C8-4EEA-A939-D2D6B75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A6A6C-74CF-470F-97B3-46796D0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5E644-B0EC-4A6D-906A-DA8538A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41867-9F18-4F4E-9492-7C7C5D94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AFB35-FA91-4BAC-8A10-CE869749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E9E37-0448-4338-AC94-55193159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29FAF-E8BC-4628-9E4D-8962D791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00B-0E3A-4D8E-94E3-2213925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6A90C-8E52-4127-A57B-138275C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FB5DE-4C08-4072-B3AD-61EC3FF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0F0CB-B32A-4DCC-98B3-20B46C4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69070-91A0-416A-B3F6-A3CCA39A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747AC-AF63-4485-86E0-AA06B3F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D51CA-7E65-4A94-BAC2-B1B0A73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DD2D5-FF69-48B8-B8CD-AC16AF8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3E81F-F396-43EC-B5AE-E19497E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073E6-80DF-48FC-92FE-3E41D9A4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FE3CB-D09E-4A7A-842F-29A372F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A81-ECFD-45BC-9556-0E59F32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C1D59-8FE1-4A91-ABBB-C7D1C88C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9A573-48EB-4228-846E-0B7B680A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119B-FA70-4F72-BF76-777AED4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23D0-55A6-40E2-91EB-E5F3D8A2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8494-1C04-4A6C-8E34-036AC88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54D27-8648-4924-8929-0D78C206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62ED-3CFC-4ED8-9057-41BC109B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EAE60-938B-4018-817F-3460C5E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FB17-DA68-4B5B-AFB2-554607BC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B35A-A6A8-4FAB-9FB2-83ED095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B85-E2D0-4D06-A1F8-A40EE155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C433-8578-48B2-BFFE-3B4FE85E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A6D6-673E-4858-AF32-AC828CF2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0EF8-F066-445C-B046-4471C545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FC219-4F94-4A20-A8F9-EF4736C8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2A276-2090-4212-9F8C-116314A0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46FDF-EA11-4414-A3AE-93C4EBF5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9C707-5BD7-4146-8B62-4A449E5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12762-9546-4879-A3DB-9455EBCD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0D5D5-F60F-4ED5-A295-FAC7873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624EB-871E-4BB2-812B-248C19E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061-D918-41EB-91B2-FFC7C7A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AE465-1326-4E0A-BD63-9E20C50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1446B-5572-449F-B2E5-1DCAC76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D8742-C659-49EA-90CE-348FAA47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C6C4F-198F-45D4-A71D-F0EF977F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9F383-64E8-4CDB-B11A-C3E06460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604D-FCC4-41D6-AAB3-E8F6836E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53D2-40FE-45E8-9B90-3F3641CE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7371-2E76-4AE1-B396-2F812F5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29ED-C987-402C-A4DC-9D032229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C016E-C035-4951-B752-FCE6D1FA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07F-081B-4331-B28E-251E55D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73E0-4C65-4D03-8467-96C2BF0E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7788-5192-4B13-97A6-98CDC58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CF68-AC4C-4483-89A7-C728185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C8A3-595F-4579-8105-49A6BE9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047BC-7A3E-4CC7-A6BF-9255E21C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9CEAE-10C5-4D0F-A6C1-894EEDA8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03E31-C0B4-4BCA-A1EF-C01F27D0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6358-CE18-4F8E-B3BA-21A5A81A32C0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50C1-1004-4BC4-8FA2-B75904C6E6BA}" type="slidenum">
              <a:rPr b="1" lang="ca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90C-83C8-4CA0-B624-D38E65673178}" type="slidenum">
              <a:rPr b="1" lang="ca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188-16EE-4827-A9D3-84D8400AB742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D5E-34F7-4D54-86D9-6DC5BF17B878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F306-E075-4CBA-9473-835BF2A86906}" type="slidenum">
              <a:rPr b="1" lang="ca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8F9C-1A34-4D14-A310-DEB76FB7CBB5}" type="slidenum">
              <a:rPr b="1" lang="ca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A162-EA1F-4F0D-B5CB-7DBEEF692F04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71840" y="499680"/>
            <a:ext cx="613872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bddc3"/>
                </a:solidFill>
                <a:latin typeface="Tw Cen MT"/>
              </a:rPr>
              <a:t>EDIP REI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w Cen MT"/>
              </a:rPr>
              <a:t>REFERENTS CLÀSSI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Prole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1856880"/>
            <a:ext cx="38862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en en escena el sacerdot, Edip i creo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comunica la mort de “Lay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La esfinx adverteix als pres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Contenidor de contingut 6" descr="edipo.jpg"/>
          <p:cNvPicPr/>
          <p:nvPr/>
        </p:nvPicPr>
        <p:blipFill>
          <a:blip r:embed="rId1"/>
          <a:stretch/>
        </p:blipFill>
        <p:spPr>
          <a:xfrm>
            <a:off x="5143680" y="2324160"/>
            <a:ext cx="3200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Edip parlant en el corife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sentencia el culpable de la mort de “Lay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ntra Tiresi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diu a Edip que ell mateix és el assass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dip ho neg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Creonte explica als ciutadans que edip es el culp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Edip i l’acusa de voler guanyar-se al po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xplica la historia de la mort de “Layo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dip comença a recordar, i es compleixen tots els fe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w Cen MT"/>
              </a:rPr>
              <a:t>Creonte i Edi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w Cen MT"/>
              </a:rPr>
              <a:t>Entra Iocas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I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un missatger que anuncia a Edip la mort del seu pare (no biològ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resulta ser el pastor que va arreplegar a Edip acabat de naix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comença a aclarir el misteri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o IV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missatger conta tota la histo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Finalment, resulta complir-se l’orac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x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Un altre missatger apareix anunciant que Iocasta s’ha suïcid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Deprés es suïcida Edip arrentcant-se els ulls anteriorm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Contenidor de contingut 6" descr="edipo_re_freud_medaglia_telepatia.jpg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Refer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w Cen MT"/>
              </a:rPr>
              <a:t>Aquesta tragedia dona peu a les pelicul.les d’enbolics familiars com poderosa Afrodita de Woody A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Contenidor de contingut 6" descr="6d7f25df4c3613dbb956656b95ce2fbc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38560" y="1450800"/>
            <a:ext cx="2676600" cy="9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Poderosa Afrod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matrimoni protagonista decideix adoptar un xiqu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pare decideix adoptiu decideix buscar la mare biològi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Finalment, acaben tenint un fill ju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deixa un final obert propi d’aquestes pelicul.l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54:24Z</dcterms:created>
  <dc:creator>Juli Ballester Sorribes</dc:creator>
  <dc:description/>
  <dc:language>en-US</dc:language>
  <cp:lastModifiedBy>Juli Ballester Sorribes</cp:lastModifiedBy>
  <dcterms:modified xsi:type="dcterms:W3CDTF">2010-04-18T21:26:12Z</dcterms:modified>
  <cp:revision>15</cp:revision>
  <dc:subject/>
  <dc:title>EDIP REI</dc:title>
</cp:coreProperties>
</file>